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415E-B552-47C9-8A29-D60682E48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yalemedicalgroup.org/stw/Page.asp?PageID=STW028984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this website of a medical illustrator on December 6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s from: http://drawbones.com/2009/01/dissection-of-the-kidney-kiw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mons.wikimedia.org/wiki/File:Kidney_structure_neutral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mage from :http://kcfac.kilgore.cc.tx.us/mobleypageap1/quizzes_and_downloads.ht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(Image from: http://www.medical-illustrations.ca/1010-kidney-nephron-diagram/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fferent Arrives…Efferent Exi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on previous slide from:  http://www.mountainside-medical.com/products/Urine-Specimen-Cup ,-Sterile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, NaCl, H+ ions, amino acid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oduced 120 mL of urine a minut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your bladder’s stretch receptors signal to your brain when there is 200mL of urine;  can hold up to 600-8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tic gradient created by glucose, amino acids moves water back to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perosmo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hyperton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poosmo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hypoton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oosmo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isoton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on next slide from: http://lifeinthefastlane.com/education/investigations-tests/urinalysis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healthcareguide4u.blogspot.com/2009/05/kidney-stones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s from: http://www.freeclinicproject.org/the-natural-way-of-passing-kidney-stones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nocturnaldialysis.org/LOWBP.LRG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metrohealth.org/body.cfm?id=1452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cartoonstudio.co.uk/Pages/kmeters1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(NH3) is highly 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beijo.com/39245025_human-excretory-system-fac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revolutionhealth.com/articles/blood-supply-to-the-kidneys/tp13026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BF8D-7F21-4293-9DF7-50840700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5D5-0416-4551-83EC-C2897906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8B07-5CE8-4C9A-A517-715B7598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30C-ECBE-41E8-85DA-B78F4DAE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2EE-385F-402B-87FC-AB7D27F8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81C-29FC-4CD6-945F-95C302B2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CF3E-406E-4FBF-9729-FFA9613B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205-FAF2-4D61-B435-3FC6238E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588-28E3-4062-A3AE-18229AD6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A140-FEF9-4C98-8D2E-C25C0616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A24-52AD-427A-B31A-1646F3E3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750-5882-4118-91E4-A6F9FC86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9E90-F10D-4F00-B078-642A5D10B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pennmedicine.org/encyclopedia/em_DisplayAnimation.aspx?gcid=000136&amp;ptid=17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davisplus.fadavis.com/scanlon6e/Animations/animations.cfm?exercise=NephronFiltration&amp;title=Nephron%20Filtration" TargetMode="External"/><Relationship Id="rId2" Type="http://schemas.openxmlformats.org/officeDocument/2006/relationships/hyperlink" Target="http://davisplus.fadavis.com/scanlon6e/Animations/animations.cfm?exercise=NephronFiltration&amp;title=Nephron%20Filtration" TargetMode="External"/><Relationship Id="rId3" Type="http://schemas.openxmlformats.org/officeDocument/2006/relationships/hyperlink" Target="http://davisplus.fadavis.com/scanlon6e/Animations/animations.cfm?exercise=NephronFiltration&amp;title=Nephron%20Filtration" TargetMode="External"/><Relationship Id="rId4" Type="http://schemas.openxmlformats.org/officeDocument/2006/relationships/hyperlink" Target="http://davisplus.fadavis.com/scanlon6e/Animations/animations.cfm?exercise=NephronFiltration&amp;title=Nephron%20Filtration" TargetMode="External"/><Relationship Id="rId5" Type="http://schemas.openxmlformats.org/officeDocument/2006/relationships/hyperlink" Target="http://davisplus.fadavis.com/scanlon6e/Animations/animations.cfm?exercise=NephronFiltration&amp;title=Nephron%20Filtration" TargetMode="External"/><Relationship Id="rId6" Type="http://schemas.openxmlformats.org/officeDocument/2006/relationships/hyperlink" Target="http://davisplus.fadavis.com/scanlon6e/Animations/animations.cfm?exercise=NephronFiltration&amp;title=Nephron%20Filtration" TargetMode="External"/><Relationship Id="rId7" Type="http://schemas.openxmlformats.org/officeDocument/2006/relationships/hyperlink" Target="http://davisplus.fadavis.com/scanlon6e/Animations/animations.cfm?exercise=NephronFiltration&amp;title=Nephron%20Filtration" TargetMode="External"/><Relationship Id="rId8" Type="http://schemas.openxmlformats.org/officeDocument/2006/relationships/hyperlink" Target="http://davisplus.fadavis.com/scanlon6e/Animations/animations.cfm?exercise=NephronFiltration&amp;title=Nephron%20Filtration" TargetMode="External"/><Relationship Id="rId9" Type="http://schemas.openxmlformats.org/officeDocument/2006/relationships/hyperlink" Target="http://davisplus.fadavis.com/scanlon6e/Animations/animations.cfm?exercise=NephronFiltration&amp;title=Nephron%20Filtration" TargetMode="External"/><Relationship Id="rId10" Type="http://schemas.openxmlformats.org/officeDocument/2006/relationships/hyperlink" Target="http://davisplus.fadavis.com/scanlon6e/Animations/animations.cfm?exercise=NephronFiltration&amp;title=Nephron%20Filtration" TargetMode="External"/><Relationship Id="rId11" Type="http://schemas.openxmlformats.org/officeDocument/2006/relationships/hyperlink" Target="http://davisplus.fadavis.com/scanlon6e/Animations/animations.cfm?exercise=NephronFiltration&amp;title=Nephron%20Filtration" TargetMode="External"/><Relationship Id="rId12" Type="http://schemas.openxmlformats.org/officeDocument/2006/relationships/hyperlink" Target="http://bcs.whfreeman.com/thelifewire/content/chp51/51020.html" TargetMode="External"/><Relationship Id="rId1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khanacademy.org/video/the-kidney-and-nephron?playlist=Biology" TargetMode="External"/><Relationship Id="rId2" Type="http://schemas.openxmlformats.org/officeDocument/2006/relationships/hyperlink" Target="http://www.khanacademy.org/video/the-kidney-and-nephron?playlist=Biology" TargetMode="External"/><Relationship Id="rId3" Type="http://schemas.openxmlformats.org/officeDocument/2006/relationships/hyperlink" Target="http://www.khanacademy.org/video/the-kidney-and-nephron?playlist=Biology" TargetMode="External"/><Relationship Id="rId4" Type="http://schemas.openxmlformats.org/officeDocument/2006/relationships/hyperlink" Target="http://www.khanacademy.org/video/the-kidney-and-nephron?playlist=Biology" TargetMode="External"/><Relationship Id="rId5" Type="http://schemas.openxmlformats.org/officeDocument/2006/relationships/hyperlink" Target="http://www.khanacademy.org/video/the-kidney-and-nephron?playlist=Biology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TXRcbjuYGU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Balance &amp; Ex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4 &amp; 9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rina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eys can hold up to 25% of the body’s blood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eys filter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e (with wastes and toxins) is conducted to the bladder through the u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u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al pel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8320" y="2147760"/>
            <a:ext cx="38098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Kiw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29040" y="198108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Kiwi Dis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h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nctional unit of the kidney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ph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bout 1 million nephrons in each 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52680" y="609480"/>
            <a:ext cx="6037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Kidney Structu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934920"/>
            <a:ext cx="777240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82920" y="609480"/>
            <a:ext cx="4176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01680" y="609480"/>
            <a:ext cx="6740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regulation of the osmotic pressure of bodily fluids an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motic pressu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ressure resulting from a difference in solute concentration across a selectively permeable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51040" y="609480"/>
            <a:ext cx="5641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urine form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ine 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overview of urine 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ennmedicine.org/encyclopedia/em_DisplayAnimation.aspx?gcid=000136&amp;ptid=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blood pressure in 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, ions, smaller dissolved molecules (glucose, amino acids, urea) can move through the walls of the 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kidneys filter your entire blood plasm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every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on pum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bsorb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c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e transport prote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bsorb amino acids, 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ate becomes hypoosmotic to interstitial fluid, so water is reabsorb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roug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quapor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reabsorption occurs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ximal convoluted tub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ate with high concentration of urea and other wastes enter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op of Hen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tal convoluted tub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water and ions (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are reabsor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(cont’d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llecting du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permeable to water but not salt ions, so more water is reabsor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bottom of medulla, urea is reabsorbed through passive urea transporters (increasing concentration gradient…more water reabsorb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s (active) to adjust blood pH (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lso reabsorbed to bal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of detoxified poisons (pass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-soluble drugs (pass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-containing wastes (such as small amounts of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xi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t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rrated animation on urine formation; good amount of detai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/davisplus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adavis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com/scanlon6e/Animations/animations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fm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?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exercise=NephronFiltration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&amp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title=Nephron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%20Fil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rrated animation of structure &amp; function;  quite detail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bcs.whfreeman.com/thelifewire/content/chp51/51020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link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an academy…this video starts off with the structure of the kidney &amp; nephron, then goes into detail about the formation of urine (covered in 9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hanacademy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rg/video/the-kidney-and-nephron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?playlist=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osmo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oosmo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osmo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i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to detect many metabolic and kidney disorders as well as urinary tract inf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e can be assessed using a dipstick or at a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Test Dipst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009880" y="1981080"/>
            <a:ext cx="5122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1 - body cannot produce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2 - cells fail to use insulin 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ational - hormones of pregnancy interfere with action of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alysis would show high levels of glucose (and greater volumes of ur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by precipitation of minerals, can be alkaline or aci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pain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2603520"/>
            <a:ext cx="38098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Stones -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hotripsy (shock-wave thera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eteroscopy (and placement of stent or surgical removal of st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ow-functioning kidneys, dialysis machine can filter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2687760"/>
            <a:ext cx="380988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13200" y="609480"/>
            <a:ext cx="311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cellular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balance is often maintain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actile vacu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rameci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mTXRcbjuY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ng waste is important for all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24200" y="3124080"/>
            <a:ext cx="5141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Wa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s are eliminated through various org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gs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intestine (solid was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r (transforms toxins for remov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eys (soluble was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ogenous Was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from de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s that live in water can remo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mmon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lot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mmals, some reptiles, most amphibians for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s and some invertebrates produ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Excre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al Blood Fl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is brought to the kidneys by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ed blood leaves the kidneys through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2795760"/>
            <a:ext cx="38098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1:19:22Z</dcterms:created>
  <dc:creator>rubina khan</dc:creator>
  <dc:description/>
  <dc:language>en-US</dc:language>
  <cp:lastModifiedBy>rubina khan</cp:lastModifiedBy>
  <dcterms:modified xsi:type="dcterms:W3CDTF">2013-05-16T12:49:37Z</dcterms:modified>
  <cp:revision>228</cp:revision>
  <dc:subject/>
  <dc:title>Maintaining An Internal Balance</dc:title>
</cp:coreProperties>
</file>